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00ED-E541-4941-AB5C-16A9877BC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 Service Rep-MCCU: Previous Manager left, same situation- same fight – same silos- same lack of communic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both, personal perspective, but joint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biguous Statements – Did anyone see that the trash can is full?  You did a lot better than the last time.  It was really nice for you to think of 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estable Statements – Unilateral statements, I know, I’ve had more experience than you hav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Feelings – Hesitate because of what they might think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behavior; fights with your spous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iest is cooperation, collaboration is most difficult and is the least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ings go well keep doing what you’re d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 this by the age of s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o it so well that we no longer need to monitor what we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mptions start to control the decision process.  It becomes self-serving and self-sealing. Soon don’t need to even look at data or interpret i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3D78-95B6-4F22-9214-69C4295D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023E-6FDD-4401-9CEF-4F4F989A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7F1-2FB7-4757-BEF8-D6B87E0E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CD9B-34FE-4986-BF17-ABF4D5E0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E59-043D-4F0B-91C7-27F0C6EF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FA5-11BD-411B-BCEC-5AF89F95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BE1-24E0-42BE-8153-70131747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959-E633-4DEF-ADD2-27EDB772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021-5EA1-479D-B330-E6351A39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B45-F189-4D67-8332-9E924101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621-5988-4098-88A6-F8C538A7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58A-BAD8-42D7-A6CA-C6456170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601"/>
              </a:spcBef>
              <a:spcAft>
                <a:spcPts val="601"/>
              </a:spcAft>
              <a:buClr>
                <a:srgbClr val="0000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06B0-EB2F-4165-B690-1BEB71A52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905120"/>
            <a:ext cx="77724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0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Arial"/>
              </a:rPr>
              <a:t>Learning to Collaborate</a:t>
            </a:r>
            <a:endParaRPr b="1" i="1" lang="en-US" sz="8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Organizational Defense Routines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learning and thereby prevent organizations from eliminating the underlying problems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ic: people leave and new ones arrive; yet the defensive routines remai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vercome our suspicions, we must be able to discuss them, and that violates the undiscussability rule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Collaborative Strategies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irm and Support Individual Advocacy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Inquiry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mbiguous Statemen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ssumption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for Verifiable Dat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Participation in Solution Developmen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om of Choice/Internal Commitmen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Tell-Tale Signs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biguous statemen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Half-B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ntestable statemen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ust Me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 discussion on important topic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rnal noise/feeling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feel the need to manipulate the “response” or to protect yoursel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edictable negative interaction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The Need for Practice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killed Unawarenes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killed Incompetenc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are so skilled at Organizational Defense Routines, that knowing what they are and recognizing when they occur is not enough to stop us from carrying them out.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Double Loop Learning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3648240"/>
            <a:ext cx="1540080" cy="1746000"/>
          </a:xfrm>
          <a:custGeom>
            <a:avLst/>
            <a:gdLst>
              <a:gd name="textAreaLeft" fmla="*/ 206280 w 1540080"/>
              <a:gd name="textAreaRight" fmla="*/ 1333800 w 1540080"/>
              <a:gd name="textAreaTop" fmla="*/ 305280 h 1746000"/>
              <a:gd name="textAreaBottom" fmla="*/ 1265760 h 174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44920" y="3276720"/>
            <a:ext cx="205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ffect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44920" y="477828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2414520"/>
            <a:ext cx="1540080" cy="1746360"/>
          </a:xfrm>
          <a:custGeom>
            <a:avLst/>
            <a:gdLst>
              <a:gd name="textAreaLeft" fmla="*/ 206280 w 1540080"/>
              <a:gd name="textAreaRight" fmla="*/ 1333800 w 1540080"/>
              <a:gd name="textAreaTop" fmla="*/ 305640 h 1746360"/>
              <a:gd name="textAreaBottom" fmla="*/ 1266120 h 174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394240" y="2208960"/>
            <a:ext cx="1540080" cy="1746360"/>
          </a:xfrm>
          <a:custGeom>
            <a:avLst/>
            <a:gdLst>
              <a:gd name="textAreaLeft" fmla="*/ 206280 w 1540080"/>
              <a:gd name="textAreaRight" fmla="*/ 1333800 w 1540080"/>
              <a:gd name="textAreaTop" fmla="*/ 305280 h 1746360"/>
              <a:gd name="textAreaBottom" fmla="*/ 1265760 h 174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44920" y="231300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394240" y="3443400"/>
            <a:ext cx="1540080" cy="1746000"/>
          </a:xfrm>
          <a:custGeom>
            <a:avLst/>
            <a:gdLst>
              <a:gd name="textAreaLeft" fmla="*/ 206280 w 1540080"/>
              <a:gd name="textAreaRight" fmla="*/ 1333800 w 1540080"/>
              <a:gd name="textAreaTop" fmla="*/ 305280 h 1746000"/>
              <a:gd name="textAreaBottom" fmla="*/ 1265760 h 174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3048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267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Three Legs of 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Individual Action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uthority – Ability to make decision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ponsibility – Required tasks or end result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ccountability – Required to fix “it” when things go wrong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Three Legs of 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Group Action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operation – Joint decision making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ordination – Synchronized tasks to achieve shared end result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llaboration – Holistic corrective action when things go wrong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64008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r Management Psychologists ©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When Things Go Wrong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st of us do well when there are few threats or little chance of embarrassmen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en things go wrong, instead of working together, individuals strive to protect themselve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Organizational Defense Routin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Chris Argyris)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s to be universal with no measurable differences by country, age, sex, ethnic identity, education, wealth, power, or experienc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s become so skilled at defensive routines that they no longer pay attention to them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killed unawar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nd do not see that the behaviors are not leading them to their desired result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killed incompet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Individual Defense Strategy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ay in unilateral contro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ximize winning and minimize losing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ppress negative feeling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 as rational as possibl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Group Defensive Strategy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sign an ambiguous messag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ct like it is not ambiguou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ke the ambiguity of the message undiscussabl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ke the undiscussability undiscussabl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Organizational Defense Routine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2209680"/>
            <a:ext cx="3352680" cy="1677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Individual Defense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tay in unilater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ximize winning and minimize lo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uppress negative feel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e as rational a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343400"/>
            <a:ext cx="3467160" cy="205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Group Defense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sign an ambiguou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t like it is not ambig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 the ambiguity of the message undiscus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 the undiscussability undiscus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3047760" y="3961800"/>
            <a:ext cx="1219320" cy="13716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4876560" y="2895480"/>
            <a:ext cx="1219320" cy="13716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Jumping to Action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2819520"/>
            <a:ext cx="30477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9" idx="0"/>
            <a:endCxn id="69" idx="2"/>
          </p:cNvCxnSpPr>
          <p:nvPr/>
        </p:nvCxnSpPr>
        <p:spPr>
          <a:xfrm flipH="1" rot="16200000">
            <a:off x="4178880" y="3668400"/>
            <a:ext cx="1702440" cy="2160"/>
          </a:xfrm>
          <a:prstGeom prst="curvedConnector5">
            <a:avLst>
              <a:gd name="adj1" fmla="val -38324"/>
              <a:gd name="adj2" fmla="val 69240000"/>
              <a:gd name="adj3" fmla="val -38324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6400800" y="3424320"/>
            <a:ext cx="1828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819520" y="3124080"/>
            <a:ext cx="68580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36576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3657600"/>
            <a:ext cx="68580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0T19:32:08Z</dcterms:created>
  <dc:creator>Lynn A. Walker, Ph.D.</dc:creator>
  <dc:description/>
  <dc:language>en-US</dc:language>
  <cp:lastModifiedBy>Lynn A. Walker, Ph.D.</cp:lastModifiedBy>
  <dcterms:modified xsi:type="dcterms:W3CDTF">2004-01-19T04:52:39Z</dcterms:modified>
  <cp:revision>22</cp:revision>
  <dc:subject/>
  <dc:title>Learning to Collaborate</dc:title>
</cp:coreProperties>
</file>